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7DF-57DB-436B-ABED-1559FA35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F48-0112-4AC4-8171-8AD4B590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604-2D01-43D9-A309-25A327F2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B36-B81C-46D5-BCD7-F1E93034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071F-29FB-4C98-AFFE-BF274D7B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0BCF-1DEC-4803-B20F-81B67783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D3F2-8A50-4934-91EE-BF856C75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DD75-CBC4-4D30-A276-0C10EBB8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1E4A-9220-4293-8089-91C74F4E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4EE5-8361-4873-8823-FC308D48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882A-403C-4581-BB42-47FBB3C0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F53-53AD-4DD2-A4B7-F6C4584A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FDB1-2C3A-4677-A55D-6CA0CD6F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C3F0-F5E6-4CE7-8800-CBE83A3F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A2FB-FDC7-4D2A-9D6C-6CE82A15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3ACC-8351-4C3D-A3FA-EA172EFA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01DC-A036-4EBE-970B-534AEC4A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B32CA-23C5-4BF9-BE90-5710E900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10D96-D3EB-4DB0-8AC0-16455D9B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40164-B093-49D8-98F2-760F8655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43435-9F9C-4A38-9BAE-D3695B60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0144E-DD79-49F6-9A9F-5C89EB57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755-8F56-4493-907E-DDD8964A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BBB45-011D-48A1-81AC-9079352E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E3311-CE70-4004-BD8C-55413DA5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AA553-8DA3-4886-8B3D-3155D759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C9605-7525-44EF-9A20-38C559C7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B94CB-9CBF-4BB4-8688-3B433130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891F7-2F2C-46C8-B006-F088BA5E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27DAC-6398-4005-B653-F58EDE84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32F00-9E18-402B-9748-3875585D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6649E-6DE4-4C9D-B7E4-F744E5F5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E4DFF-6B45-4A32-8552-D2F9A76F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A81-2A73-42F8-AAB9-1FA18C88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65522-9CF9-4516-806A-4F9BF93C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DCB3D-3540-45F8-9843-CB22B1C0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32789-8E36-4EAB-B7FF-8FABA2B0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F0F12-56CB-49F1-A74B-4330212E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285E-81AD-43C0-A785-A6781D60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41B6B-4FCD-4B83-84A0-0E4BD543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B6970-8E0D-4FB6-B8F3-15DB6222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5B959-2C0D-489F-81DF-FA4D4CA3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2168D-EDA1-48A1-A042-258EB502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58F06-3138-43AB-9DDC-6E078633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63C-45B1-4266-A0AB-80BC1A1A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48212-D346-4FA4-A952-FC9E2B26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FDEAB-3163-4A3D-9142-1DE47216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471B8-97F4-4BB3-B50F-814BD908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F0606-A2A1-4731-9B15-A9697F20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09545-9873-4F88-AA39-66365DB9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A15D8-B600-4420-AEB0-20CD93A6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B93F1-7818-4535-9763-5EFC04C8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68719-3944-439C-A758-D45D4783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5BA38-3BDB-4E89-9298-41FFAE8E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E556A-DAA7-467B-9A00-5A001098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F00-92C0-4F95-BAD0-8528A58A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8C478-BAA5-43EE-AF97-B2C5245C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4391E-0CB2-46D9-9494-EDEF15FC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73431-6E90-4098-8A21-406ED6AE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C4AD6-5ACB-4696-9171-6B2778F4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AD72E-C3A0-4FE7-B79C-67451062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D6835-6902-400E-A65E-3F5B9AB7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C7C84-6624-4AF7-88F2-85CC3250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FC041-B3E8-4F0D-ABDA-5D9E9663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9DA5F-7049-46DE-9E7C-4206EB0B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59967-A7B4-4746-B195-DC9E6BFD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AA1-6068-45A5-8729-F68298D8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183BC-92A1-47B3-BD78-2A2E4B22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D7F6D-50C8-4E55-B6F4-AB6E9A20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B2851-2F0F-4739-B3DF-D9885672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9AD70-9309-41B4-AD75-7C4425E7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E4421-B55F-4024-89B9-844FF131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985F8-A3A6-4A60-843C-817E3E8E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D20A6-45BB-4B01-98BE-9D918CA1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A106C-0BCB-44AC-8EFD-0EDC8E89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E5D8B-A373-476F-8279-DDF0EF33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BD219-0A7F-4ACE-B983-AEE20158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AE4-45BC-4592-8ED6-9108912E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E632D-B036-49BD-B1AE-1E61810E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89C28-041D-40D8-AD8A-E45D3207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959D7-B8EA-486C-8BE5-9FD8A52E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4C932-1DD2-4CCF-BDC6-6E37F249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76F58-FA3D-4D8B-B420-452D6990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C6B42-E2CA-4983-8CD8-CF718898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7FF94-5602-49ED-9DCD-627CDCBF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72534-1498-4E2D-B217-A7D1F446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C9E55-BE05-46CD-B191-D8011497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72F2C-4EBF-45EF-AE5E-AC60EDFB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77C-FDF0-408A-9DED-04E57B91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D0A0B-9416-4008-AFF8-D5A66D6F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FAE5D-793C-4303-A75C-FAF31F50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EE093-1380-4368-892C-2AB5840E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57411-E0E2-4C24-AE36-FA7343FA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0B433-0F8B-4C35-9DA4-C1FF1E96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410B7-BBAA-47D1-9351-810821AC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EE9A7-7AE1-4427-84EA-349082B1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BEB0-FD89-4E29-A468-C4E4F4D67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21EA-B9FA-4693-91AE-3AEDA88413E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2FAD-00B2-404A-BDD6-E0A34EE004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0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0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734E-1D09-4E42-8DBD-F6E5DB3A00A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7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AB19-0689-4409-876C-BBADFEB47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2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3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38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42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316F-6707-4CB1-B6F0-C2F20F601AB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9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B908-3841-45D0-BED8-E9F59A7486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54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58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8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9742-78B1-4E5B-8DEF-BF58DCC8C1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Stem-changing Verbs and Verbs w/ Spelling Chang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Stem-changing verb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4 types of stem-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-&gt; 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 -&gt; 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-&gt; 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-&gt;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990720" y="495288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ntrar (o -&gt; u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er (e -&gt; 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gar (u -&gt; u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r (e -&gt; 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Verbos con el cambio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e -&gt; 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419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rar – to 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nzar – to beg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pertar – to w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ezar – to beg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sar – to 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brar – to br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der – to def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ender – to desc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876920" y="1752480"/>
            <a:ext cx="4267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ender – to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nder – to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der – to 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rer – to w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r – to w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ir – to l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ferir – to pre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ir – to f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Verbos con el cambi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e -&gt; 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ir – to ask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– to la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r – to rep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ir – to 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r – to 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– to sm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erbos con el cambio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 -&gt; u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915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rzar – to eat lun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devolver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return (give bac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r – to tell, rel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r – to 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ar – to c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er – to sm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ntrar – to find, me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er – to be able (c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rar – to sh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lver – to sol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ar – to t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er – to be us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ar – to reme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ver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return (come bac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ar – to ring, sou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rmir – to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 – to dre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morir – to d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144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Verbo con el cambio</a:t>
            </a:r>
            <a:br>
              <a:rPr sz="3800"/>
            </a:b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u -&gt; u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gar = to play (a game, spor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533520" y="38862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tro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erbos con camb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er = to sme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-&gt;h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ír &amp; sonreír = to laugh &amp; sm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nt over the í in all for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uir = to follo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-&gt;g bef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 and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24:44Z</dcterms:created>
  <dc:creator> </dc:creator>
  <dc:description/>
  <dc:language>en-US</dc:language>
  <cp:lastModifiedBy>localadmin</cp:lastModifiedBy>
  <dcterms:modified xsi:type="dcterms:W3CDTF">2010-09-16T04:55:45Z</dcterms:modified>
  <cp:revision>9</cp:revision>
  <dc:subject/>
  <dc:title>Stem-changing Verbs and verbs with spelling changes</dc:title>
</cp:coreProperties>
</file>